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BCE4-F2ED-4E02-BF53-F47E87537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639A-1A54-4895-81FA-A8D340AD1C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FC1F-84EF-4ABB-8CE1-AC7E3297B8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97B5-563C-4CB5-A748-9303C16D83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AAA5-112B-4158-A38A-7A12D89587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E31C-D7FC-490F-9664-F69EBCCD68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071-CD51-4DC7-9C79-C30A5A2A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C55-AB13-4131-99FA-83980113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541-E2E8-49A1-9A28-B8A3C3DD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5CB4-B49D-4F7A-B13A-80DFB33E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FF05-4E55-4D8C-A79A-C0042CB1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ACB0-A15D-4D58-B7DF-164A4B6C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AC9E-2215-43B9-9E4A-8F1D3F6C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2937-8E70-4C62-986E-5DE51DE8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3841-4108-43D9-94F3-2DEEF0AD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AE51-0D51-4C29-93E0-BBE5CA0D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BAEF-796B-49E6-9A18-26627998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E79B-641A-4638-9693-FBE7C322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2F14-00E7-42D0-A898-C7EC01AA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03B4-3A30-437A-8D45-65FBCC67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ED97-C1F1-4731-9729-2933F3B0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485D-5F7C-46AE-9955-C23BD40F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1BA8-FF08-4B60-AEC0-02FCAF17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0805-6B52-492F-956A-8D618D4D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96BA-8B3B-4C82-8F49-44A2521B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239-AF14-4F58-A57C-0A5EA287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F5A3-2901-414B-B72A-ED808E66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6FE-F770-4838-97D5-A32792F6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EC5-C65D-4661-921E-2CB0EAA5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08F-4393-4BF3-A2BE-FDD33BDF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B7F4-F1F9-4235-A64C-CD1C3F503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F277-D79A-4AE2-92EA-99B44465D93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H 2.1 VOCABULAR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PEN NOTE QUIZ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OUT YOUR VOCAB &amp; A PIECE OF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 –MULTIPLE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OD LUCK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5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201320"/>
            <a:ext cx="91440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A lawmaking bod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Executive Bran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B.  Legisla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.  Supreme Court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.  All of the abo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0">
    <p:fad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A ruling in a previous court case that was similar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trend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reced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. decision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. patter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0"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Rights that no government can take awa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onducive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natur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naturaliz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ordain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0">
    <p:fad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An agreement, or contract, among a group of people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compact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tru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ru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deci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0">
    <p:fad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An agreement to give up freedom in exchange for protection by the governmen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Empasse</a:t>
            </a: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Social compa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Social contra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363636"/>
                </a:solidFill>
                <a:latin typeface="Arial"/>
              </a:rPr>
              <a:t>Civ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1-23T13:02:26Z</dcterms:modified>
  <cp:revision>122</cp:revision>
  <dc:subject/>
  <dc:title>D/O: TO EXPLAIN AND IDENTIFY PROBLEMS OF ECONOMICS</dc:title>
</cp:coreProperties>
</file>